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7B1-DE05-4949-BD3E-DB7F08AE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426-F8B5-4F6C-8056-F443C33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7F9-324D-411E-AD58-961736D8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D4-C114-4D76-89DF-098C68E0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AA5-5BA8-4495-833C-B834679A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6A-D4D9-450B-9D67-8030F2BC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BF5-73B8-4AEF-9281-DCB7416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5C9-8FAD-4A47-AFD6-CABFECC3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19B-082B-4ABF-9EBD-C17CF5A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2B6-0C80-4202-8C97-479186B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875-1794-4AB6-B82F-34A6F994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5C7-B67E-4784-B204-00D95B37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827-DED5-451E-AAD5-36EB072D6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can 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b8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5:18Z</dcterms:created>
  <dc:creator>sthobbsc</dc:creator>
  <dc:description/>
  <dc:language>en-US</dc:language>
  <cp:lastModifiedBy>sthobbsc</cp:lastModifiedBy>
  <dcterms:modified xsi:type="dcterms:W3CDTF">2007-01-04T15:05:26Z</dcterms:modified>
  <cp:revision>1</cp:revision>
  <dc:subject/>
  <dc:title>What can  I do?</dc:title>
</cp:coreProperties>
</file>